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212B-B85D-459F-93FE-5FE2D6C6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8E7-57C9-4177-9D9F-BD82EFDC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FF1-1217-4DE2-8C30-13AAD8C1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C778-89B5-441F-BAB1-7CF7F159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17F2-68A7-4502-BB8C-B75E07B8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6EE2-424E-44DC-B4A8-F5347916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E0A6-26CD-419F-BB3B-24F08738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173-5820-4361-8E2E-187F6816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515-F413-4173-815C-F231B1D3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8032-0CB6-4C85-864F-9649FE80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7A25-B2DE-48DF-8FD3-981BA3FB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61C-61F7-42A5-8E77-B070766C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F741-4111-443C-83E0-4ACA8A4AA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uni Tech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lo Wor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2:28:59Z</dcterms:created>
  <dc:creator>Jose</dc:creator>
  <dc:description/>
  <dc:language>en-US</dc:language>
  <cp:lastModifiedBy>Jose</cp:lastModifiedBy>
  <dcterms:modified xsi:type="dcterms:W3CDTF">2006-06-29T02:29:27Z</dcterms:modified>
  <cp:revision>1</cp:revision>
  <dc:subject/>
  <dc:title>Amyuni Tech Sample</dc:title>
</cp:coreProperties>
</file>